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809D-23A7-4B48-BA7B-696172FD1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16AB-0F5C-4DD1-9600-DA0E7A2BD4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C674-4FB9-4341-9CCF-01CADEAB7C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8CA5-8777-4FCF-9727-55F2DBD1C5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1760-A39F-497F-931C-976ECEB136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DAAC-5B76-4654-85CC-3265FB8BF7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A91-2902-493A-817A-F11A1638A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B760-46C9-4801-8F89-2AA2A872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F22-A317-44C1-9259-4355AA87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1EA7-134F-4AFB-9D21-AB619226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667B-58AE-4B6C-A4CF-F7FEFAF5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1D28-11EF-49D2-B868-03502C07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2286-B3F0-43B8-8C60-42947415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B7DA-B2D2-46B5-9C8B-DBC39B36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D807-1645-4380-9C87-C67EF1D2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CA0F-6815-436D-A7A9-792742CB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BD7B-22D8-4907-BA82-8467102E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961-C697-45BA-BE0A-BDC6AB9C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FB80-2F2F-497D-B244-46E4516E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34FB-DDD2-43E8-AFB5-4C176D41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CC15-E0C7-41FF-8216-36D609A9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3152-17E4-43BA-9D49-A00D2509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19B4-592D-48B3-B1A2-59E7E9E6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BDBD-D881-48E3-BB58-AEAF6E0A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19F-A0C7-4986-9795-841075A7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9159-A982-4D01-A244-2A2F473C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B27C-1F2F-4894-8935-B30E4952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1D5-F208-4B7D-B11F-7C10353E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3F1-FD6E-4595-873D-BB4894CD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3C37-31AA-4F60-9600-FD8F5113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6785-05F5-4EB8-859F-E08BD7E3E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B8AE-2D15-4D61-AC37-B3551320F4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ROKERAGE FIR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NG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ady at the Sound of the B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" y="1142640"/>
            <a:ext cx="914400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. What is the second most watched US index after the Dow Jones Industrial Average?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920" y="9144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2. Give an example of brokerage firms that offer both full and discount services to their clients.</a:t>
            </a:r>
            <a:br>
              <a:rPr sz="4400"/>
            </a:b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8763120" cy="21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3. What type of brokerage firms provide little or no investment advic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23760" y="114300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4. What type of brokerage firms provide the most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ersonalized services?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374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5. Give an example of mutual fund companies that also provide brokerage services to their client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2-06T17:11:07Z</dcterms:modified>
  <cp:revision>148</cp:revision>
  <dc:subject/>
  <dc:title>D/O: TO EXPLAIN AND IDENTIFY PROBLEMS OF ECONOMICS</dc:title>
</cp:coreProperties>
</file>